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5BCC-E671-439A-860D-C5F678EB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E5F-1DF3-4E27-A858-0D9DA62A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6654-BD28-47F8-94FD-9987672F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BB3-D150-4172-9345-0191D24D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DC8D-DE62-41BE-AA8A-3837C95F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4D87-CC51-4F65-B967-E5EE6229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E579-AF25-4B5E-9147-B567BCC3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119E-7C50-41D2-B3DD-0921214F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BB6D-9A85-4048-87F9-5F559B27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D8E7-5B5C-4382-9E25-280C9A2B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6140-900D-4CEE-82C1-C8CC3E52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80F6-2CB7-41F3-8FCB-03386947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0596-0EBA-4685-88C8-6F1E2A2F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062E-1C57-4F33-99F9-55441053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5320-FAC2-4296-92C3-76AD5557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4AD9-2626-480A-9062-ACC9F2FB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B553-C163-41DA-8400-1B4948F4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B34-FA02-498C-8F9D-EC049CC8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EC2C-71B0-47E2-8AD0-64D93180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702-E690-4CEE-A031-7FCBA927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20A7-FE45-4EE9-976C-466E086F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0BDB-15EF-40D1-ACC4-B43BFE9F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360-EC25-42EB-853E-377A0935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233-3DC8-49AD-BE48-9ED9970A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21BA-7C61-4398-AAC4-BA74B4250E0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C1E4-4E4D-43F0-949C-875203D74FF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42920" y="285840"/>
            <a:ext cx="86072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ия Большого взры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4" descr="Glowing_Eye_Nebula"/>
          <p:cNvPicPr/>
          <p:nvPr/>
        </p:nvPicPr>
        <p:blipFill>
          <a:blip r:embed="rId1"/>
          <a:stretch/>
        </p:blipFill>
        <p:spPr>
          <a:xfrm>
            <a:off x="2928960" y="2786040"/>
            <a:ext cx="4605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5724360" y="333360"/>
            <a:ext cx="34196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Столкновение нашей Галак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0 000 километров в ча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00000119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611280" y="1125360"/>
            <a:ext cx="83534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нгуляр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Что было до Большого взрыв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395280" y="18900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Загадки теории Большого взры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79280" y="907920"/>
            <a:ext cx="89647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Glowing_Eye_Nebula"/>
          <p:cNvPicPr/>
          <p:nvPr/>
        </p:nvPicPr>
        <p:blipFill>
          <a:blip r:embed="rId1"/>
          <a:stretch/>
        </p:blipFill>
        <p:spPr>
          <a:xfrm>
            <a:off x="0" y="1528920"/>
            <a:ext cx="4605480" cy="5329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5148360" y="333360"/>
            <a:ext cx="3995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Теория Большого Взры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сширяющуюся Вселенную и существование космического фонового изл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24000" y="549360"/>
            <a:ext cx="8569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6877080" y="174600"/>
            <a:ext cx="226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Начало звездо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00000078"/>
          <p:cNvPicPr/>
          <p:nvPr/>
        </p:nvPicPr>
        <p:blipFill>
          <a:blip r:embed="rId1"/>
          <a:stretch/>
        </p:blipFill>
        <p:spPr>
          <a:xfrm>
            <a:off x="0" y="0"/>
            <a:ext cx="65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6372360" y="189000"/>
            <a:ext cx="2520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Первые галакти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5229360"/>
            <a:ext cx="86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00000064"/>
          <p:cNvPicPr/>
          <p:nvPr/>
        </p:nvPicPr>
        <p:blipFill>
          <a:blip r:embed="rId1"/>
          <a:stretch/>
        </p:blipFill>
        <p:spPr>
          <a:xfrm>
            <a:off x="0" y="0"/>
            <a:ext cx="6372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6084720" y="0"/>
            <a:ext cx="3059280" cy="61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Туманность Песочных час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00000061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5580000" y="0"/>
            <a:ext cx="356400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Туманность Краб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00000062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4932360" y="0"/>
            <a:ext cx="421164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Arial"/>
              </a:rPr>
              <a:t>Млечный 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00000026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00000005"/>
          <p:cNvPicPr/>
          <p:nvPr/>
        </p:nvPicPr>
        <p:blipFill>
          <a:blip r:embed="rId1"/>
          <a:stretch/>
        </p:blipFill>
        <p:spPr>
          <a:xfrm>
            <a:off x="5732640" y="0"/>
            <a:ext cx="3411360" cy="4437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00000136"/>
          <p:cNvPicPr/>
          <p:nvPr/>
        </p:nvPicPr>
        <p:blipFill>
          <a:blip r:embed="rId2"/>
          <a:stretch/>
        </p:blipFill>
        <p:spPr>
          <a:xfrm>
            <a:off x="0" y="2133720"/>
            <a:ext cx="5435640" cy="4724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5686560" y="5300640"/>
            <a:ext cx="34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этом снимке показана спиральная галактик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0" y="47628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37:46Z</dcterms:created>
  <dc:creator>User</dc:creator>
  <dc:description/>
  <dc:language>en-US</dc:language>
  <cp:lastModifiedBy>User</cp:lastModifiedBy>
  <dcterms:modified xsi:type="dcterms:W3CDTF">2012-06-16T08:02:05Z</dcterms:modified>
  <cp:revision>7</cp:revision>
  <dc:subject/>
  <dc:title>Слайд 1</dc:title>
</cp:coreProperties>
</file>